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F968-E62F-4564-A5E9-770FA5617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s that add fluoride to their water have a higher cancer rate than those that don'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C854-FA5C-4664-B546-700628BC2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7613-5C6B-4F28-BD5E-45C5C19BC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at http://www.npr.org/templates/story/story.php?storyId=4542341. If you reallay love math, you will find a detailed account on Wikip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5783-9909-4B67-A917-84F1D720A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hi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www.npr.org/templates/story/story.php?storyId=45423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8B52-2611-44AC-96A5-46ED33385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41BA-0D28-4D3C-9434-A58D0710E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1% of gynecologists get the right answer (B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059D-DF22-490F-81DA-E6A590E5D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's wrong with these pictu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areful reading of the whole article (buried several pages into the paper) reveals a different story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The ranking graph covers an 11 year period, the tuition graph 35 years, yet they are shown simultaneously (the same apparent width) on the same horizontal "scale"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The vertical scale for tuition and ranking could not possibly have common units, but the ranking graph is placed under the tuition graph creating the impression that cost exceeds qual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The differing time units are cleverly disguised by printing them rotated 90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And here is the masterstroke: the sharp "drop" in the ranking graph over the past few years actually represents the fact that Cornell's rank has IMPROVED from 15th TO 6th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/3 vs. 1/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f - Larger denominator is big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36 vs. 4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f - Numbers with more digits are big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vs. m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1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f - More letters mean bigger unit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A1F6-95EF-4266-A2E9-04BB5BF62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2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36 x 10 = 2.3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2506-B994-4AB1-914E-2E3AC54A6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568-D8E2-4691-84D8-E9752F27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863-009B-42A4-A067-379C81EA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991E-0D3D-4045-A618-C962FD64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475-0BE8-40B3-B9EB-0D1D3DEF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C43D-520A-48BC-A977-719B541A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EDB9-4784-40FD-88E5-551D2C83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4D12-81E2-49B9-AF98-B7A2AFAF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F29B-09B7-4B72-AB6A-0D1520AC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75FB-0B80-4C06-A40F-7AB9C9B6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EB5B-E449-4491-82EE-9667F810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CFD6-B2EF-4ACB-81E9-D9C759DB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73BD-207D-463B-B118-767D7280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C1A9-150E-4AF5-A29B-04ECF2A6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44E5-2EED-4AF0-A7A5-26C0C739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46F4-88AF-4039-9975-B3B291B6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E049-ADA6-45F5-A554-ECE2C812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4903-19A3-4589-B470-4F7AB4C5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6E4A5-8804-4A6B-AAD2-271D974A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F4D2B-8B8F-4F56-9D6E-22C21B72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E0AF1-6B2C-40DE-BF0B-410248C9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030C9-D85E-47C2-9A48-0EF94A46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7BF54-A33F-4C5A-B99F-5BF9EC3C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3F8-CF2E-49A7-8DA0-5E185613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4467D-2B53-4859-B64C-9EA4AA50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2F3FE-933F-48F6-B333-EC609B44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D493F-BEB2-41E3-8CBC-79F4B435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41D83-1569-4B10-A1A6-C58D5338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E8115-D398-40D7-ADD1-87D31A39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15852-C40F-4B5F-BF74-D31E0EC9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1DB9E-9F9F-4CF2-B140-FE4B80DD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B6E-1608-4269-BB9D-6D36D427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4E6E-CB39-436D-8348-370A4F2B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E1C-5D85-49C0-B6E9-C25DD4C7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568-AE36-4C60-8EB7-069B10D8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BA1-2D2B-4FF4-911A-C67A6D3E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0CD7-C688-4F15-96B4-A96AF1C1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077D-CEED-4398-9239-073D3D7C9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399F-7F29-4108-AAED-BEFF285221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5815-804E-4543-A488-B2218DDEC4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thedailyshow.com/watch/thu-april-30-2009/large-hadron-collider" TargetMode="Externa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lluminations.nctm.org/ActivityDetail.aspx?ID=16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vLNOpoQztFo&amp;feature=related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1447920" y="722160"/>
            <a:ext cx="57704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ying with Number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Content Placeholder 3" descr=""/>
          <p:cNvPicPr/>
          <p:nvPr/>
        </p:nvPicPr>
        <p:blipFill>
          <a:blip r:embed="rId1"/>
          <a:stretch/>
        </p:blipFill>
        <p:spPr>
          <a:xfrm>
            <a:off x="5257800" y="380880"/>
            <a:ext cx="346860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Statistics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rrelation vs. Causation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spcAft>
                <a:spcPts val="876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lief:  Fluoridated water causes cancer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lief:  Vaccines cause autism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math11"/>
          <p:cNvPicPr/>
          <p:nvPr/>
        </p:nvPicPr>
        <p:blipFill>
          <a:blip r:embed="rId1"/>
          <a:stretch/>
        </p:blipFill>
        <p:spPr>
          <a:xfrm>
            <a:off x="2525760" y="762120"/>
            <a:ext cx="4575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BIRTHDAY PROBLEM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f you have 23 people in a room, what is the probability that two of them will have the same birthday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And then there’s the </a:t>
            </a:r>
            <a:r>
              <a:rPr b="1" lang="en-US" sz="5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adron Collider…</a:t>
            </a:r>
            <a:br>
              <a:rPr sz="5400"/>
            </a:b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Misunderstanding Probability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43200" y="259092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2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l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ich sounds worse?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6176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woman born today has a 1 in 8 chance of developing breast cancer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88% of the women born today will never develop breast cancer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 couple has two children and at least one of them is a boy. What is the probability that their other child is a boy?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Mammography Statistic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probability that a woman has breast cancer is 1%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f a woman has breast cancer, the probability that she tests positive is 90%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f a woman does not have breast cancer, the probability that she nevertheless tests positive is 9%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33520" y="4876920"/>
            <a:ext cx="815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Out of 10 women with a positive mammogram, ~9 have breast can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Out of 10 women with a positive mammogram, ~1 has breast can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The probability that she has breast cancer is about 1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759240" y="3809880"/>
            <a:ext cx="753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oman has a positive mammogram. What is 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 of actually having breast canc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533520" y="3657600"/>
            <a:ext cx="792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Guidelines for Preventing Math Error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eep track of all informa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paper trail)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 visual keys, such as arrow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eep track of unit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ate answer clearly, WITH UNIT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eck that your answer makes sens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752120"/>
            <a:ext cx="75852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s it safer to use vacuum systems than pressured systems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682920" y="295200"/>
            <a:ext cx="64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oday’s Safety Z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Group 10" descr=""/>
          <p:cNvPicPr/>
          <p:nvPr/>
        </p:nvPicPr>
        <p:blipFill>
          <a:blip r:embed="rId1"/>
          <a:stretch/>
        </p:blipFill>
        <p:spPr>
          <a:xfrm>
            <a:off x="1474920" y="4664160"/>
            <a:ext cx="61149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324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Graph Interpretation Problems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Graph vs. pictu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lope vs. heigh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connect from data tabl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st Graphing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ithaca1"/>
          <p:cNvPicPr/>
          <p:nvPr/>
        </p:nvPicPr>
        <p:blipFill>
          <a:blip r:embed="rId1"/>
          <a:stretch/>
        </p:blipFill>
        <p:spPr>
          <a:xfrm>
            <a:off x="380880" y="1606680"/>
            <a:ext cx="4023000" cy="5029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ithaca2"/>
          <p:cNvPicPr/>
          <p:nvPr/>
        </p:nvPicPr>
        <p:blipFill>
          <a:blip r:embed="rId2"/>
          <a:stretch/>
        </p:blipFill>
        <p:spPr>
          <a:xfrm>
            <a:off x="4873680" y="152280"/>
            <a:ext cx="4083120" cy="6705720"/>
          </a:xfrm>
          <a:prstGeom prst="rect">
            <a:avLst/>
          </a:prstGeom>
          <a:ln w="0">
            <a:noFill/>
          </a:ln>
        </p:spPr>
      </p:pic>
      <p:sp>
        <p:nvSpPr>
          <p:cNvPr id="146" name="Line 7"/>
          <p:cNvSpPr/>
          <p:nvPr/>
        </p:nvSpPr>
        <p:spPr>
          <a:xfrm>
            <a:off x="2209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759200" y="76320"/>
            <a:ext cx="43848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4560840" y="3424320"/>
            <a:ext cx="43848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Distinguish misconceptions from errors. </a:t>
            </a:r>
            <a:br>
              <a:rPr sz="7200"/>
            </a:b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val 1">
            <a:hlinkClick r:id="rId1"/>
          </p:cNvPr>
          <p:cNvSpPr/>
          <p:nvPr/>
        </p:nvSpPr>
        <p:spPr>
          <a:xfrm>
            <a:off x="4267080" y="5867280"/>
            <a:ext cx="457200" cy="457200"/>
          </a:xfrm>
          <a:prstGeom prst="ellipse">
            <a:avLst/>
          </a:prstGeom>
          <a:solidFill>
            <a:srgbClr val="7f1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hich is bigger?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0" y="1905120"/>
            <a:ext cx="647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/3 vs. 1/8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.36 vs. 4.2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g vs. mg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Examples of Math Misconception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spcAft>
                <a:spcPts val="36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ultiplication always creates bigger numbers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spcAft>
                <a:spcPts val="36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ultiplication by 10 adds a zero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Powers of Ten –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 Gahh!</a:t>
            </a:r>
            <a:endParaRPr b="1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982880" y="4038480"/>
            <a:ext cx="520992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r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vironmental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9:13:08Z</dcterms:created>
  <dc:creator>Cynthia J. Moore</dc:creator>
  <dc:description/>
  <dc:language>en-US</dc:language>
  <cp:lastModifiedBy>Cynthia J. Moore</cp:lastModifiedBy>
  <cp:lastPrinted>2011-04-05T20:02:30Z</cp:lastPrinted>
  <dcterms:modified xsi:type="dcterms:W3CDTF">2011-04-14T16:38:28Z</dcterms:modified>
  <cp:revision>77</cp:revision>
  <dc:subject/>
  <dc:title>Slide 1</dc:title>
</cp:coreProperties>
</file>